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6B176-73E6-491D-9191-F57B7C70B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C66EE-F628-4E66-BCA6-09358A024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C1642-B82B-4852-A909-73F78000C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06073-5E8C-437D-B9E1-2AA02AB67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43CA1-FAF7-4D00-8B2B-7400EAA5DE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358C8-CFFA-4C64-83F2-7347096D0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A5A8A-3392-475F-AC05-5931311BC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404BC-27E6-4480-BE5C-7B74AFF4E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4A34D-7C74-42FC-BE8F-6432FA2E94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9B76D-BB58-4A11-8973-D16AB928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E5A22-2C78-4901-B751-C792E0FCA7B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78641-F870-4C1B-9DE4-35006E3AC3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2E9A6-F1A4-40E0-938E-758008DB00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7B23F-BEFA-4C8F-A41C-1F49989D03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PWP_template_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4197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380880" y="3962520"/>
            <a:ext cx="83059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Introduction to ARIN and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the Internet Registry Syst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685800" y="5667480"/>
            <a:ext cx="7696080" cy="1440"/>
          </a:xfrm>
          <a:prstGeom prst="line">
            <a:avLst/>
          </a:prstGeom>
          <a:ln w="3168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pplying the principles of stewardship, ARIN, a nonprofit corpo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Internet Protocol resourc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develops consensus-based policie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the advancement of the Internet through information and educational out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ARIN’s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RIN’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Like the other RIRs, AR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and assigns Internet numb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articipates in the global Interne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polic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a nonprofit, membership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governed by an elected executiv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staff_flowcharts_ppt.wmf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338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recto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gistration transaction information (WHO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cor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uting information (Internet Routing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25320" y="1523520"/>
            <a:ext cx="516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ordination &amp; management of Internet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net number resource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MCj02500780000[1]"/>
          <p:cNvPicPr/>
          <p:nvPr/>
        </p:nvPicPr>
        <p:blipFill>
          <a:blip r:embed="rId1"/>
          <a:stretch/>
        </p:blipFill>
        <p:spPr>
          <a:xfrm>
            <a:off x="5486400" y="1523880"/>
            <a:ext cx="30322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echnical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57200" y="1417680"/>
            <a:ext cx="845820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WHOIS/RWH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net Routing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erse DNS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 public services also available over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support f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erging Technologies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NNSEC, RPKI, Whois-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munity Software Project Repository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303960" y="914400"/>
            <a:ext cx="2611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c Policy &amp; Memb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124080" y="4419720"/>
            <a:ext cx="5105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ecutive Boar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ffcc00"/>
              </a:buClr>
              <a:buSzPct val="75000"/>
              <a:buFont typeface="Wingdings 2" charset="2"/>
              <a:buChar char=""/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MCBD07123_0000[1]"/>
          <p:cNvPicPr/>
          <p:nvPr/>
        </p:nvPicPr>
        <p:blipFill>
          <a:blip r:embed="rId1"/>
          <a:stretch/>
        </p:blipFill>
        <p:spPr>
          <a:xfrm>
            <a:off x="1066680" y="4191120"/>
            <a:ext cx="1808280" cy="1577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MCj03342360000[1]"/>
          <p:cNvPicPr/>
          <p:nvPr/>
        </p:nvPicPr>
        <p:blipFill>
          <a:blip r:embed="rId2"/>
          <a:stretch/>
        </p:blipFill>
        <p:spPr>
          <a:xfrm>
            <a:off x="6019920" y="1828800"/>
            <a:ext cx="22096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formation publ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d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MCBD06630_0000[1]"/>
          <p:cNvPicPr/>
          <p:nvPr/>
        </p:nvPicPr>
        <p:blipFill>
          <a:blip r:embed="rId1"/>
          <a:stretch/>
        </p:blipFill>
        <p:spPr>
          <a:xfrm>
            <a:off x="685800" y="3886200"/>
            <a:ext cx="2590920" cy="20667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3429000" y="434340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MCPE01638_0000[1]"/>
          <p:cNvPicPr/>
          <p:nvPr/>
        </p:nvPicPr>
        <p:blipFill>
          <a:blip r:embed="rId2"/>
          <a:stretch/>
        </p:blipFill>
        <p:spPr>
          <a:xfrm>
            <a:off x="5715000" y="152388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714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nage the Policy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intain e-mail discussion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sh policy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666880" y="36576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609480" y="1676520"/>
            <a:ext cx="1905120" cy="99036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9480" y="3200400"/>
            <a:ext cx="1905120" cy="106668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533520" y="4800600"/>
            <a:ext cx="1981080" cy="121932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971800" y="3276720"/>
            <a:ext cx="52182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Open Particip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Inclu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971800" y="1771560"/>
            <a:ext cx="5486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unity Proposes, Discusses, and Approves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2895480" y="5064120"/>
            <a:ext cx="63248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ocumented, Published &amp; Accessible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PDP, Policies, an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 Regional Internet Registry (RIR) system began in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re are five R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 RIRs are nonprofit, community-driven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IRs coordinate closely with IANA, and are part of the Internet Regist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457200" y="457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This afternoon’s program in the Ball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1227240"/>
            <a:ext cx="8534520" cy="411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1:30 PM - Hosting Providers &amp; 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3:45 PM  - ARIN Online: New Functionalit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4:45 PM - Introduction to ARIN Polic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5:00 PM - Open Policy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1828800" y="4788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Caledon &amp; Oakville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up one level on main fl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991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0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lease complete the survey form and drop it in the bowl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omorrow morning at the start of the meeting there will be a drawing for a $100 Think Geek gift certificate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090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2880"/>
            <a:ext cx="86868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Internet Regist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420920"/>
          <a:ext cx="8686800" cy="4370400"/>
        </p:xfrm>
        <a:graphic>
          <a:graphicData uri="http://schemas.openxmlformats.org/drawingml/2006/table">
            <a:tbl>
              <a:tblPr/>
              <a:tblGrid>
                <a:gridCol w="1371600"/>
                <a:gridCol w="7315200"/>
              </a:tblGrid>
              <a:tr h="163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CAN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(IAN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op level coordination of the Internet identifiers (domain names, numb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glob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unallocated IP address po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R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regional unallocated IP address 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/L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SP/L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local IP address pool for use by customers and for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16"/>
          <p:cNvSpPr/>
          <p:nvPr/>
        </p:nvSpPr>
        <p:spPr>
          <a:xfrm flipH="1">
            <a:off x="1047600" y="5067360"/>
            <a:ext cx="92880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8"/>
          <p:cNvSpPr/>
          <p:nvPr/>
        </p:nvSpPr>
        <p:spPr>
          <a:xfrm>
            <a:off x="1976400" y="5067360"/>
            <a:ext cx="99864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6"/>
          <p:cNvSpPr/>
          <p:nvPr/>
        </p:nvSpPr>
        <p:spPr>
          <a:xfrm flipH="1">
            <a:off x="2257560" y="3749760"/>
            <a:ext cx="216216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6"/>
          <p:cNvSpPr/>
          <p:nvPr/>
        </p:nvSpPr>
        <p:spPr>
          <a:xfrm>
            <a:off x="4419720" y="3749760"/>
            <a:ext cx="207648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5183a"/>
                </a:solidFill>
                <a:latin typeface="Century Gothic"/>
              </a:rPr>
              <a:t>Number Resource Provisioning Hierarc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309760" y="1295280"/>
            <a:ext cx="4224240" cy="892440"/>
          </a:xfrm>
          <a:prstGeom prst="rect">
            <a:avLst/>
          </a:prstGeom>
          <a:solidFill>
            <a:srgbClr val="008cb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124080" y="1353960"/>
            <a:ext cx="25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CANN /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717280" y="1658880"/>
            <a:ext cx="349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Internet Assigned Numbers Auth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362320" y="1887480"/>
            <a:ext cx="411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glob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977760" y="4660920"/>
            <a:ext cx="1997280" cy="4064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969840" y="4711680"/>
            <a:ext cx="200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2200320" y="5916600"/>
            <a:ext cx="1523880" cy="341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2"/>
          <p:cNvSpPr/>
          <p:nvPr/>
        </p:nvSpPr>
        <p:spPr>
          <a:xfrm>
            <a:off x="2257560" y="5945040"/>
            <a:ext cx="146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533520" y="5925960"/>
            <a:ext cx="1022400" cy="3416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533520" y="5954760"/>
            <a:ext cx="101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8" descr=""/>
          <p:cNvPicPr/>
          <p:nvPr/>
        </p:nvPicPr>
        <p:blipFill>
          <a:blip r:embed="rId1"/>
          <a:stretch/>
        </p:blipFill>
        <p:spPr>
          <a:xfrm>
            <a:off x="2340000" y="2895480"/>
            <a:ext cx="419400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9"/>
          <p:cNvSpPr/>
          <p:nvPr/>
        </p:nvSpPr>
        <p:spPr>
          <a:xfrm>
            <a:off x="2347920" y="2922480"/>
            <a:ext cx="4178160" cy="827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4202280" y="2968560"/>
            <a:ext cx="56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2569320" y="3289320"/>
            <a:ext cx="366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AfriNIC, APNIC, ARIN, LACNIC, RIPE N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2"/>
          <p:cNvSpPr/>
          <p:nvPr/>
        </p:nvSpPr>
        <p:spPr>
          <a:xfrm>
            <a:off x="2431080" y="3517920"/>
            <a:ext cx="40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region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8"/>
          <p:cNvSpPr/>
          <p:nvPr/>
        </p:nvSpPr>
        <p:spPr>
          <a:xfrm>
            <a:off x="457200" y="5316480"/>
            <a:ext cx="1177920" cy="3002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9"/>
          <p:cNvSpPr/>
          <p:nvPr/>
        </p:nvSpPr>
        <p:spPr>
          <a:xfrm>
            <a:off x="537480" y="5362560"/>
            <a:ext cx="100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l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50"/>
          <p:cNvSpPr/>
          <p:nvPr/>
        </p:nvSpPr>
        <p:spPr>
          <a:xfrm>
            <a:off x="2381400" y="5326200"/>
            <a:ext cx="1177920" cy="29988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1"/>
          <p:cNvSpPr/>
          <p:nvPr/>
        </p:nvSpPr>
        <p:spPr>
          <a:xfrm>
            <a:off x="2541960" y="536256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4"/>
          <p:cNvSpPr/>
          <p:nvPr/>
        </p:nvSpPr>
        <p:spPr>
          <a:xfrm>
            <a:off x="5943600" y="4678200"/>
            <a:ext cx="2057400" cy="4096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5"/>
          <p:cNvSpPr/>
          <p:nvPr/>
        </p:nvSpPr>
        <p:spPr>
          <a:xfrm>
            <a:off x="6019920" y="4745160"/>
            <a:ext cx="190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4"/>
          <p:cNvSpPr/>
          <p:nvPr/>
        </p:nvSpPr>
        <p:spPr>
          <a:xfrm flipV="1">
            <a:off x="4419720" y="2187360"/>
            <a:ext cx="0" cy="7347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92"/>
          <p:cNvSpPr/>
          <p:nvPr/>
        </p:nvSpPr>
        <p:spPr>
          <a:xfrm>
            <a:off x="3908520" y="229392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3"/>
          <p:cNvSpPr/>
          <p:nvPr/>
        </p:nvSpPr>
        <p:spPr>
          <a:xfrm>
            <a:off x="4002120" y="2340000"/>
            <a:ext cx="92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2"/>
          <p:cNvSpPr/>
          <p:nvPr/>
        </p:nvSpPr>
        <p:spPr>
          <a:xfrm>
            <a:off x="640080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3"/>
          <p:cNvSpPr/>
          <p:nvPr/>
        </p:nvSpPr>
        <p:spPr>
          <a:xfrm>
            <a:off x="6494400" y="4091040"/>
            <a:ext cx="8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4"/>
          <p:cNvSpPr/>
          <p:nvPr/>
        </p:nvSpPr>
        <p:spPr>
          <a:xfrm flipV="1">
            <a:off x="6934320" y="44258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 flipV="1">
            <a:off x="1908000" y="4379400"/>
            <a:ext cx="0" cy="27972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 flipV="1">
            <a:off x="297504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4"/>
          <p:cNvSpPr/>
          <p:nvPr/>
        </p:nvSpPr>
        <p:spPr>
          <a:xfrm flipV="1">
            <a:off x="104760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2"/>
          <p:cNvSpPr/>
          <p:nvPr/>
        </p:nvSpPr>
        <p:spPr>
          <a:xfrm>
            <a:off x="141588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3"/>
          <p:cNvSpPr/>
          <p:nvPr/>
        </p:nvSpPr>
        <p:spPr>
          <a:xfrm>
            <a:off x="1509840" y="4091040"/>
            <a:ext cx="83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RIR_Regions_map.wmf"/>
          <p:cNvPicPr/>
          <p:nvPr/>
        </p:nvPicPr>
        <p:blipFill>
          <a:blip r:embed="rId1"/>
          <a:stretch/>
        </p:blipFill>
        <p:spPr>
          <a:xfrm>
            <a:off x="380880" y="1465200"/>
            <a:ext cx="845820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57200" y="1600200"/>
          <a:ext cx="8458200" cy="39625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9718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npro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mbership 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mmunity-reg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e for services, not 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 community fu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oad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rivate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ublic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Civil socie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ty developed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mber-elected executive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 and transpa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itle 3"/>
          <p:cNvSpPr/>
          <p:nvPr/>
        </p:nvSpPr>
        <p:spPr>
          <a:xfrm>
            <a:off x="380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RI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80880" y="1219320"/>
          <a:ext cx="8458200" cy="4460760"/>
        </p:xfrm>
        <a:graphic>
          <a:graphicData uri="http://schemas.openxmlformats.org/drawingml/2006/table">
            <a:tbl>
              <a:tblPr/>
              <a:tblGrid>
                <a:gridCol w="2919600"/>
                <a:gridCol w="24908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Policy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6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P address allocation &amp;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ASN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Directory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HO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R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everse D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El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nformation disse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eb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News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ound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intain e-mail discussion l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Conduct public policy 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Publish policy docu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I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bout 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ne of five Regional Interne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rvices 25 Economies in the Canada, the Caribbean and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Nonprofit corporation based in Chantilly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stablished December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100% community 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he ARI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3352680" y="3733920"/>
            <a:ext cx="10670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3581280" y="5334120"/>
            <a:ext cx="1219320" cy="13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73080" y="5181480"/>
            <a:ext cx="5946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RIN’s region includes Canada, many Caribbean and North Atlantic islands, and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ARIN_Region_low.jpg"/>
          <p:cNvPicPr/>
          <p:nvPr/>
        </p:nvPicPr>
        <p:blipFill>
          <a:blip r:embed="rId1"/>
          <a:stretch/>
        </p:blipFill>
        <p:spPr>
          <a:xfrm>
            <a:off x="25560" y="1219320"/>
            <a:ext cx="909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9:21:28Z</dcterms:created>
  <dc:creator>Megan Kruse</dc:creator>
  <dc:description/>
  <dc:language>en-US</dc:language>
  <cp:lastModifiedBy>susanh</cp:lastModifiedBy>
  <dcterms:modified xsi:type="dcterms:W3CDTF">2010-04-05T12:37:06Z</dcterms:modified>
  <cp:revision>143</cp:revision>
  <dc:subject/>
  <dc:title>ABOUT IP ADDRESSES</dc:title>
</cp:coreProperties>
</file>